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463-C9D3-4A7F-B5AE-E03FE4EB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240-58F0-45CA-856A-52F3CCD0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C5E-1F80-4E6E-9DC5-CD0EF085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09C-4CED-49D0-BE4F-C172293D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430C-A3D1-4510-8F3C-A90613EE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0AB9-4D4C-42BB-A952-46140C06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E38E-9827-40CB-8126-8C18E4B2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676D-9025-447A-8025-06CA4F63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0BE4-0EF1-4D80-B734-4D6A9553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E08F-AF32-4843-ADF6-51C9F7B8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671-4A82-4AE9-A159-68549D94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D57-5C18-4057-824A-96C6E7AF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8F9F-DF0B-4DC5-8BD3-9BA5397F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55E0-68DA-4092-A6C1-0F36616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D9DB-A2CE-4E30-B9E0-0A6B9CC8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6643-69F3-42F1-81A1-FFB0C1ED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F751-EDE0-4EFD-95F2-53F21623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305-88DE-4234-AF58-A07A7E8C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037-F262-4E88-8710-A1294380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F31-5EAF-4F00-B707-84A1EB0B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243-93C0-4F2E-B479-27DBF7AF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C2A-0820-40AF-B8D7-ED4419F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CA1-0B5A-430B-9514-A9586E74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7B0-1D01-4311-B37E-0261D58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02069c"/>
                </a:gs>
                <a:gs pos="100000">
                  <a:srgbClr val="ff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c50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9446-8944-470A-B632-28ECF1A43A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02069c"/>
                </a:gs>
                <a:gs pos="100000">
                  <a:srgbClr val="ff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c50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4B91-FD1B-4F52-8F2A-407D01FD7C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Documents and Settings\hongcui\Local Settings\Temporary Internet Files\Content.IE5\EK1L40OD\MC900441170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7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Berlin Sans FB Demi"/>
              </a:rPr>
              <a:t>Planets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 Demi"/>
              </a:rPr>
              <a:t>The new and ol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erlin Sans FB Demi"/>
              </a:rPr>
              <a:t>Ice/Fire Plane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Ice Planet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-200 degrees Celsius or u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at makes the following ice plane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lu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ke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aum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r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pt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Fire Planet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Above 300 degrees Cels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That makes the following fire plane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rc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en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fire-planet"/>
          <p:cNvPicPr/>
          <p:nvPr/>
        </p:nvPicPr>
        <p:blipFill>
          <a:blip r:embed="rId1"/>
          <a:stretch/>
        </p:blipFill>
        <p:spPr>
          <a:xfrm>
            <a:off x="6553080" y="4114800"/>
            <a:ext cx="1924200" cy="192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ice%20planet%20blue%20cracked"/>
          <p:cNvPicPr/>
          <p:nvPr/>
        </p:nvPicPr>
        <p:blipFill>
          <a:blip r:embed="rId2"/>
          <a:stretch/>
        </p:blipFill>
        <p:spPr>
          <a:xfrm>
            <a:off x="3657600" y="3505320"/>
            <a:ext cx="187164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erlin Sans FB Demi"/>
              </a:rPr>
              <a:t>Fast Plan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ast Planet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A shorter rotational period then one earth year (or under 300 day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at makes the following fast plane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Ve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mercury2"/>
          <p:cNvPicPr/>
          <p:nvPr/>
        </p:nvPicPr>
        <p:blipFill>
          <a:blip r:embed="rId1"/>
          <a:stretch/>
        </p:blipFill>
        <p:spPr>
          <a:xfrm>
            <a:off x="5699160" y="3029040"/>
            <a:ext cx="3054240" cy="305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 rot="20778600">
            <a:off x="988560" y="3161880"/>
            <a:ext cx="2382840" cy="25639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 rot="772200">
            <a:off x="7220880" y="30272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erc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 rot="20803200">
            <a:off x="2452320" y="54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hongcui\Local Settings\Temporary Internet Files\Content.IE5\YGXE58T4\MC900438203[1].wmf"/>
          <p:cNvPicPr/>
          <p:nvPr/>
        </p:nvPicPr>
        <p:blipFill>
          <a:blip r:embed="rId1"/>
          <a:stretch/>
        </p:blipFill>
        <p:spPr>
          <a:xfrm>
            <a:off x="533520" y="0"/>
            <a:ext cx="7569000" cy="6124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ffffcc"/>
                </a:solidFill>
                <a:latin typeface="Berlin Sans FB Demi"/>
              </a:rPr>
              <a:t>~Thanks for Watching~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C:\Documents and Settings\hongcui\Local Settings\Temporary Internet Files\Content.IE5\A7T6LC6K\MC900432592[1].png"/>
          <p:cNvPicPr/>
          <p:nvPr/>
        </p:nvPicPr>
        <p:blipFill>
          <a:blip r:embed="rId2"/>
          <a:stretch/>
        </p:blipFill>
        <p:spPr>
          <a:xfrm rot="1295400">
            <a:off x="586728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7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4"/>
          <p:cNvSpPr/>
          <p:nvPr/>
        </p:nvSpPr>
        <p:spPr>
          <a:xfrm>
            <a:off x="3505320" y="8380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Planetary Mean 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4"/>
          <p:cNvSpPr/>
          <p:nvPr/>
        </p:nvSpPr>
        <p:spPr>
          <a:xfrm>
            <a:off x="4952880" y="1523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Moons and Pla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4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Box 4"/>
          <p:cNvSpPr/>
          <p:nvPr/>
        </p:nvSpPr>
        <p:spPr>
          <a:xfrm>
            <a:off x="1295280" y="12193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Orbital Period of Pla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Box 4"/>
          <p:cNvSpPr/>
          <p:nvPr/>
        </p:nvSpPr>
        <p:spPr>
          <a:xfrm>
            <a:off x="1752480" y="9907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Rotational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4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Box 4"/>
          <p:cNvSpPr/>
          <p:nvPr/>
        </p:nvSpPr>
        <p:spPr>
          <a:xfrm>
            <a:off x="1981080" y="838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Distance From 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4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Box 4"/>
          <p:cNvSpPr/>
          <p:nvPr/>
        </p:nvSpPr>
        <p:spPr>
          <a:xfrm>
            <a:off x="4191120" y="762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Diameter Of Pla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4"/>
          <p:cNvGraphicFramePr/>
          <p:nvPr/>
        </p:nvGraphicFramePr>
        <p:xfrm>
          <a:off x="0" y="0"/>
          <a:ext cx="9144000" cy="700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Box 5"/>
          <p:cNvSpPr/>
          <p:nvPr/>
        </p:nvSpPr>
        <p:spPr>
          <a:xfrm>
            <a:off x="1752480" y="8380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Density Of Pla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erlin Sans FB Demi"/>
              </a:rPr>
              <a:t>Plane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Planet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A spherical 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Gra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Orbital period of at least one earth year (or at least 300 day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Below 300 degrees Celsius, but above -200 degrees Celsius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That makes the following plane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p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a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earth"/>
          <p:cNvPicPr/>
          <p:nvPr/>
        </p:nvPicPr>
        <p:blipFill>
          <a:blip r:embed="rId1"/>
          <a:stretch/>
        </p:blipFill>
        <p:spPr>
          <a:xfrm rot="2850600">
            <a:off x="6162840" y="423864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 rot="20931600">
            <a:off x="1447560" y="4571640"/>
            <a:ext cx="1962000" cy="1752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6934320" y="3886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a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057400" y="4419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p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22:09:52Z</dcterms:created>
  <dc:creator>ASD</dc:creator>
  <dc:description/>
  <dc:language>en-US</dc:language>
  <cp:lastModifiedBy>labwil2</cp:lastModifiedBy>
  <dcterms:modified xsi:type="dcterms:W3CDTF">2011-02-16T21:52:07Z</dcterms:modified>
  <cp:revision>5</cp:revision>
  <dc:subject/>
  <dc:title>Planets</dc:title>
</cp:coreProperties>
</file>